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2A0-DC90-4854-BB77-EF2DBA4D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0A1-6A48-41AA-A947-5EED0395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DB3-77AE-4A10-BC46-8ABF5D32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B0C-6852-4496-90C0-ED3D442D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419-013D-4D60-9F5F-661C2F7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124-5D25-425E-A148-1A357B46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E29-B4FE-4562-ADDD-BA6838C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6CB-F26B-463D-AFF6-9951F853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B5B-B5AB-427C-A734-C29CB101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2F4-167D-4B08-90C3-DBB6B7B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F85-8A05-401C-B779-0288D4F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007-AE63-4C39-B51A-33BE8E7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FE2C-293B-41C5-9AD6-8732A1642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Литературное чт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d4e4f88a03bc"/>
          <p:cNvPicPr/>
          <p:nvPr/>
        </p:nvPicPr>
        <p:blipFill>
          <a:blip r:embed="rId1"/>
          <a:stretch/>
        </p:blipFill>
        <p:spPr>
          <a:xfrm>
            <a:off x="1222200" y="285840"/>
            <a:ext cx="7135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9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М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  Алексеевич Бун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МАТЕР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. А. Бун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9142" r="0" b="9142"/>
          <a:stretch/>
        </p:blipFill>
        <p:spPr>
          <a:xfrm>
            <a:off x="2071800" y="500040"/>
            <a:ext cx="4897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286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ом Буни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образцы изображений.jpg"/>
          <p:cNvPicPr/>
          <p:nvPr/>
        </p:nvPicPr>
        <p:blipFill>
          <a:blip r:embed="rId1"/>
          <a:stretch/>
        </p:blipFill>
        <p:spPr>
          <a:xfrm>
            <a:off x="1071720" y="357120"/>
            <a:ext cx="6654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643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.Н.Бунин                       Л.А.Бун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357120" y="357120"/>
            <a:ext cx="4176720" cy="53578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16" descr="bunina_l_a.jpg"/>
          <p:cNvPicPr/>
          <p:nvPr/>
        </p:nvPicPr>
        <p:blipFill>
          <a:blip r:embed="rId2"/>
          <a:stretch/>
        </p:blipFill>
        <p:spPr>
          <a:xfrm>
            <a:off x="4927680" y="357120"/>
            <a:ext cx="4216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амп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913742915.jpg"/>
          <p:cNvPicPr/>
          <p:nvPr/>
        </p:nvPicPr>
        <p:blipFill>
          <a:blip r:embed="rId1"/>
          <a:stretch/>
        </p:blipFill>
        <p:spPr>
          <a:xfrm>
            <a:off x="1604880" y="1285920"/>
            <a:ext cx="5038920" cy="507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356920" y="1642680"/>
            <a:ext cx="435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нге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C:\Documents and Settings\Admin\Рабочий стол\Новая папка (2)\0_734d7_f2ab4a30_XL.jpg"/>
          <p:cNvPicPr/>
          <p:nvPr/>
        </p:nvPicPr>
        <p:blipFill>
          <a:blip r:embed="rId1"/>
          <a:stretch/>
        </p:blipFill>
        <p:spPr>
          <a:xfrm>
            <a:off x="1857240" y="857160"/>
            <a:ext cx="5000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925560" y="843120"/>
            <a:ext cx="33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откий голос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284720" y="822240"/>
            <a:ext cx="4319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покойный, не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22160" y="2382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чаровать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363840" y="2378160"/>
            <a:ext cx="57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извести неотразимое впечатление на кого-либ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870120" y="4284720"/>
            <a:ext cx="24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умрак 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987640" y="428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полная темн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-1476360" y="2997360"/>
            <a:ext cx="1476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babochka.mp3" descr=""/>
          <p:cNvPicPr/>
          <p:nvPr/>
        </p:nvPicPr>
        <p:blipFill>
          <a:blip r:embed="rId3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4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0.33295 L 0.5 1.6763E-006 E">
                                      <p:cBhvr>
                                        <p:cTn id="5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 -4.9711E-006 L 0.88004 -0.41433 E">
                                      <p:cBhvr>
                                        <p:cTn id="55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003 -0.41433 C 0.90156 -0.16971 0.92326 0.07492 0.88958 0.17966 C 0.85608 0.2844 0.76927 0.20995 0.67899 0.21341 C 0.58872 0.21688 0.42986 0.19815 0.34844 0.2007 C 0.26701 0.20324 0.22031 0.27076 0.19045 0.22821 C 0.16059 0.18567 0.17257 0.000239999999999997 0.16962 -0.05502 C 0.16667 -0.11028 0.17222 -0.06635 0.17274 -0.10358 C 0.17326 -0.14081 0.1724 -0.23676 0.17274 -0.27907 C 0.17309 -0.32138 0.16944 -0.3304 0.17448 -0.35722 C 0.17969 -0.38404 0.14792 -0.51699 0.20312 -0.43976 C 0.25851 -0.36254 0.50903 -0.01156 0.50642 0.10567 C 0.50382 0.22289 0.18628 0.3281 0.18733 0.26428 C 0.18837 0.20047 0.51597 -0.21086 0.51285 -0.27699 C 0.50972 -0.34312 0.22431 -0.15676 0.16806 -0.13317 E">
                                      <p:cBhvr>
                                        <p:cTn id="58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06 -0.13317 C 0.16806 0.04532 0.26007 0.19214 0.3724 0.19214 C 0.50538 0.19214 0.55365 0.02914 0.57361 -0.06867 L 0.59445 -0.19815 C 0.61545 -0.29595 0.66615 -0.45803 0.81615 -0.45803 C 0.91215 -0.45803 1.0217 -0.3119 1.0217 -0.13317 C 1.0217 0.04532 0.91215 0.19214 0.81615 0.19214 C 0.66615 0.19214 0.61545 0.02914 0.59445 -0.06867 L 0.57361 -0.19815 C 0.55365 -0.29595 0.50538 -0.45803 0.3724 -0.45803 C 0.26007 -0.45803 0.16806 -0.3119 0.16806 -0.13317 Z">
                                      <p:cBhvr>
                                        <p:cTn id="61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18 -0.04768 C 0.17118 0.13056 0.26424 0.27732 0.37778 0.27732 C 0.51181 0.27732 0.56024 0.11482 0.58056 0.01667 L 0.60174 -0.11273 C 0.62257 -0.21065 0.67396 -0.37268 0.82552 -0.37268 C 0.92222 -0.37268 1.03264 -0.22639 1.03264 -0.04768 C 1.03264 0.13056 0.92222 0.27732 0.82552 0.27732 C 0.67396 0.27732 0.62257 0.11482 0.60174 0.01667 L 0.58056 -0.11273 C 0.56024 -0.21065 0.51181 -0.37268 0.37778 -0.37268 C 0.26424 -0.37268 0.17118 -0.22639 0.17118 -0.04768 Z">
                                      <p:cBhvr>
                                        <p:cTn id="64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06 -0.13333 C 0.16806 0.0706 0.25938 0.23889 0.37101 0.23889 C 0.50261 0.23889 0.55035 0.05278 0.57014 -0.05949 L 0.5908 -0.20764 C 0.61129 -0.31945 0.66181 -0.50556 0.81042 -0.50556 C 0.90556 -0.50556 1.01389 -0.33796 1.01389 -0.13333 C 1.01389 0.0706 0.90556 0.23889 0.81042 0.23889 C 0.66181 0.23889 0.61129 0.05278 0.5908 -0.05949 L 0.57014 -0.20764 C 0.55035 -0.31945 0.50261 -0.50556 0.37101 -0.50556 C 0.25938 -0.50556 0.16806 -0.33796 0.16806 -0.13333 Z">
                                      <p:cBhvr>
                                        <p:cTn id="67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06 -0.13317 C 0.16737 -0.11375 0.16667 -0.0941 0.17119 -0.05502 C 0.1757 -0.01595 0.18855 0.06729 0.19514 0.10151 C 0.20174 0.13573 0.09028 0.23284 0.21094 0.15007 C 0.3316 0.06729 0.83924 -0.31722 0.91893 -0.39537 C 0.99862 -0.47352 0.73317 -0.3341 0.68872 -0.3193 C 0.64428 -0.3045 0.66077 -0.30866 0.65226 -0.30658 C 0.64376 -0.3045 0.64896 -0.30913 0.63785 -0.30658 C 0.62674 -0.30404 0.59827 -0.29433 0.5856 -0.29178 C 0.57292 -0.28924 0.5731 -0.29178 0.56181 -0.29178 C 0.55053 -0.29178 0.53143 -0.28647 0.51737 -0.29178 C 0.5033 -0.2971 0.49775 -0.31352 0.47761 -0.32346 C 0.45747 -0.3334 0.41633 -0.34635 0.39671 -0.35098 C 0.37709 -0.3556 0.37084 -0.34774 0.36008 -0.35098 C 0.34931 -0.35421 0.34271 -0.36254 0.3316 -0.36993 C 0.32049 -0.37733 0.30348 -0.38936 0.29341 -0.39537 C 0.28334 -0.40138 0.28438 -0.40462 0.27119 -0.406 C 0.25799 -0.40739 0.22466 -0.4134 0.21407 -0.40392 C 0.20348 -0.39444 0.20087 -0.35976 0.20782 -0.34889 C 0.21476 -0.33803 0.23976 -0.34381 0.25539 -0.33826 C 0.27101 -0.33271 0.28126 -0.32115 0.30139 -0.31514 C 0.32153 -0.30913 0.34462 -0.30982 0.37605 -0.30242 C 0.40747 -0.29502 0.46094 -0.27676 0.49028 -0.27074 C 0.51962 -0.26473 0.52639 -0.26311 0.55226 -0.26635 C 0.57813 -0.26959 0.59167 -0.26751 0.64584 -0.2897 C 0.70001 -0.3119 0.78872 -0.35583 0.87761 -0.39953 E">
                                      <p:cBhvr>
                                        <p:cTn id="70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004 -0.41433 C 0.87691 -0.41918 0.87396 -0.42381 0.87049 -0.42704 C 0.86702 -0.43028 0.86684 -0.42866 0.85938 -0.43329 C 0.85191 -0.43791 0.8382 -0.44901 0.82605 -0.45456 C 0.81389 -0.46011 0.79948 -0.46242 0.78646 -0.46704 C 0.77344 -0.47167 0.75834 -0.4793 0.74827 -0.48184 C 0.7382 -0.48439 0.73455 -0.48184 0.72605 -0.48184 C 0.71754 -0.48184 0.70834 -0.48184 0.69757 -0.48184 C 0.68681 -0.48184 0.66945 -0.48184 0.66094 -0.48184 C 0.65243 -0.48184 0.65469 -0.48184 0.64671 -0.48184 C 0.63872 -0.48184 0.62309 -0.48115 0.61337 -0.48184 C 0.60365 -0.48254 0.59862 -0.48554 0.58803 -0.48624 C 0.57743 -0.48693 0.56511 -0.48624 0.54983 -0.48624 C 0.53455 -0.48624 0.5132 -0.486 0.49584 -0.48624 C 0.47848 -0.48647 0.45695 -0.48808 0.44514 -0.48832 C 0.43334 -0.48855 0.43264 -0.48832 0.42448 -0.48832 C 0.41632 -0.48832 0.40539 -0.49155 0.39584 -0.48832 C 0.38629 -0.48508 0.37691 -0.47352 0.36737 -0.46936 C 0.35782 -0.46519 0.34618 -0.47282 0.33872 -0.46288 C 0.33125 -0.45294 0.32761 -0.43167 0.32292 -0.41017 C 0.31823 -0.38866 0.31268 -0.35814 0.31025 -0.33387 C 0.30782 -0.30959 0.30712 -0.28855 0.30868 -0.26427 C 0.31025 -0.23999 0.31771 -0.2171 0.3198 -0.1882 C 0.32188 -0.15953 0.30782 -0.13178 0.32136 -0.09086 C 0.3349 -0.04993 0.37743 0.02891 0.4007 0.05712 C 0.42396 0.08533 0.44028 0.074 0.46094 0.07816 C 0.4816 0.08232 0.50382 0.08209 0.52448 0.08255 C 0.54514 0.08301 0.57466 0.0807 0.58473 0.08047 E">
                                      <p:cBhvr>
                                        <p:cTn id="73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4100"/>
                            </p:stCondLst>
                            <p:childTnLst>
                              <p:par>
                                <p:cTn id="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61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73 0.08047 L 1.24619 -0.38104 E">
                                      <p:cBhvr>
                                        <p:cTn id="88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7" descr="44899194"/>
          <p:cNvPicPr/>
          <p:nvPr/>
        </p:nvPicPr>
        <p:blipFill>
          <a:blip r:embed="rId1"/>
          <a:stretch/>
        </p:blipFill>
        <p:spPr>
          <a:xfrm>
            <a:off x="1643040" y="144360"/>
            <a:ext cx="5786640" cy="6593040"/>
          </a:xfrm>
          <a:prstGeom prst="rect">
            <a:avLst/>
          </a:prstGeom>
          <a:ln w="0">
            <a:noFill/>
          </a:ln>
        </p:spPr>
      </p:pic>
      <p:pic>
        <p:nvPicPr>
          <p:cNvPr id="46" name="аве мария.mp3" descr=""/>
          <p:cNvPicPr/>
          <p:nvPr/>
        </p:nvPicPr>
        <p:blipFill>
          <a:blip r:embed="rId2"/>
          <a:stretch/>
        </p:blipFill>
        <p:spPr>
          <a:xfrm>
            <a:off x="828684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37178120_1230164976_R18m"/>
          <p:cNvPicPr/>
          <p:nvPr/>
        </p:nvPicPr>
        <p:blipFill>
          <a:blip r:embed="rId1"/>
          <a:stretch/>
        </p:blipFill>
        <p:spPr>
          <a:xfrm>
            <a:off x="1714680" y="120600"/>
            <a:ext cx="5715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«Сердце матери – это бездна, в глубине которой всегда найдётся прощение».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Бальз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ердце матери – неиссякаемый источник любви». 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Беран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ет милее дружка, чем родная матуш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и солнышке  тепло, при матушке добр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тица рада  весне, а дитя мате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мама лучший друг минус.mp3" descr=""/>
          <p:cNvPicPr/>
          <p:nvPr/>
        </p:nvPicPr>
        <p:blipFill>
          <a:blip r:embed="rId1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Олег\Desktop\image (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858587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9" descr="50ff4926dd07b53ebca021b2838e6145_c618521815f62ed2ca5d1b10da144e3b"/>
          <p:cNvPicPr/>
          <p:nvPr/>
        </p:nvPicPr>
        <p:blipFill>
          <a:blip r:embed="rId1"/>
          <a:stretch/>
        </p:blipFill>
        <p:spPr>
          <a:xfrm>
            <a:off x="1143000" y="214200"/>
            <a:ext cx="69292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1-web"/>
          <p:cNvPicPr/>
          <p:nvPr/>
        </p:nvPicPr>
        <p:blipFill>
          <a:blip r:embed="rId1"/>
          <a:stretch/>
        </p:blipFill>
        <p:spPr>
          <a:xfrm>
            <a:off x="1214280" y="173160"/>
            <a:ext cx="64296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993415357"/>
          <p:cNvPicPr/>
          <p:nvPr/>
        </p:nvPicPr>
        <p:blipFill>
          <a:blip r:embed="rId1"/>
          <a:stretch/>
        </p:blipFill>
        <p:spPr>
          <a:xfrm>
            <a:off x="1643040" y="136440"/>
            <a:ext cx="5643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37178120_1230164976_R18m"/>
          <p:cNvPicPr/>
          <p:nvPr/>
        </p:nvPicPr>
        <p:blipFill>
          <a:blip r:embed="rId1"/>
          <a:stretch/>
        </p:blipFill>
        <p:spPr>
          <a:xfrm>
            <a:off x="1714680" y="120600"/>
            <a:ext cx="5715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Documents and Settings\User\Мои документы\Мои рисунки\мама\im145.jpg"/>
          <p:cNvPicPr/>
          <p:nvPr/>
        </p:nvPicPr>
        <p:blipFill>
          <a:blip r:embed="rId1"/>
          <a:stretch/>
        </p:blipFill>
        <p:spPr>
          <a:xfrm>
            <a:off x="571680" y="614520"/>
            <a:ext cx="78246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User\Мои документы\Мои рисунки\мама\0d876a0156f1.jpg"/>
          <p:cNvPicPr/>
          <p:nvPr/>
        </p:nvPicPr>
        <p:blipFill>
          <a:blip r:embed="rId1"/>
          <a:stretch/>
        </p:blipFill>
        <p:spPr>
          <a:xfrm>
            <a:off x="1357200" y="571680"/>
            <a:ext cx="6384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d4e4f88a03bc"/>
          <p:cNvPicPr/>
          <p:nvPr/>
        </p:nvPicPr>
        <p:blipFill>
          <a:blip r:embed="rId1"/>
          <a:stretch/>
        </p:blipFill>
        <p:spPr>
          <a:xfrm>
            <a:off x="1222200" y="285840"/>
            <a:ext cx="7135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7:21:54Z</dcterms:created>
  <dc:creator>Admin</dc:creator>
  <dc:description/>
  <dc:language>en-US</dc:language>
  <cp:lastModifiedBy>Олег</cp:lastModifiedBy>
  <dcterms:modified xsi:type="dcterms:W3CDTF">2016-04-01T06:42:00Z</dcterms:modified>
  <cp:revision>44</cp:revision>
  <dc:subject/>
  <dc:title>Слайд 1</dc:title>
</cp:coreProperties>
</file>